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279D-7557-4839-A63E-CF9182C1A3B9}" type="datetime">
              <a:rPr b="0" lang="en-US" sz="1200" spc="-1" strike="noStrike">
                <a:solidFill>
                  <a:srgbClr val="2f2b20"/>
                </a:solidFill>
                <a:latin typeface="Times New Roman"/>
              </a:rPr>
              <a:t>07/30/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7C4F-C8E4-4706-B04C-AF45A99FE950}"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35E5-E6CA-47F4-AEC7-E9E273996C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FFFB-EF09-42E2-9280-19C1A274FD34}"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3D72-3170-4DA5-A1A3-20467DA0E8DD}"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C29F-F9A4-4CB1-9EFA-BE5D5B739E5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E56A-26CA-4248-9F03-5C017F3ED7A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F6FB-F523-4BDA-B3DB-A051DE5F2596}"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A028-A5B2-47A5-A93A-C304D9C8E0D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4798-AB91-46F5-B094-5D8346AD828D}"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B0C6-2231-42AC-898C-A5D03BCDFC7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8D1A-291E-49B0-BDBF-8F3E426E3269}"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9E02-32C6-433C-9DD9-E62C0CC522D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C269-607F-410A-ABCA-7F22BA54C6F3}"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3265-B9DB-43EE-8603-6FE9ECAD0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B2A6-A983-4ECB-A2BB-F74D8D8E150B}"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8994-B4F1-4871-8B91-A18ADDDB94E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E0BF-953E-474A-B221-37F89CFA0001}"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BD45-2141-4EE1-B477-B92143A9862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1A4E-7B76-48CD-BC9D-AB3BD40A1ED2}"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0CD4-C601-4D7E-BAD9-92294DEE009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26D9-E9A9-4A54-ADB4-FDE3F1619A98}"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836E-FAC8-4728-A9A1-3A29B119E60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4934-1DA4-4E4A-951E-30B5FECF5478}"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B8AF-5BD9-4DCD-A044-9DC2869E610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EBBF-1D93-4AD3-A50F-CC7CFABB5344}"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F4D4-748E-444D-B2A5-D747CA6A7865}"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F16B-1AB1-460E-873F-E395D33F1420}"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12035E9-887A-45AD-9E96-207E734E6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ACD91D-AF10-4EF5-B345-62C5CE5B2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8F366CB-C3DF-4310-8441-AF73BA2C8D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40A4CD-3B61-4CB2-83C3-6B2BB6749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85390-4836-4C67-9EF5-6C75CE869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2A2BC-A436-48E3-8D3B-ED3C7331F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C171-485D-456A-AC5C-BB7921502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73B8-1188-4902-BE3E-69F9BB494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1FF10-6C80-4762-85C8-856441D15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AEDBC-BAE9-4172-9510-483B6374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B1DD8-8A1E-4681-BDD3-B182813F7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947E9C-F87A-4095-85E8-AE6CF0A08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23216-7126-48AE-B770-FDBADBE8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DA79C-745F-4F74-BF56-402831142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587A4-41A5-4E53-AD2E-99D0B3E3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AFD4E-DCC4-4D83-8806-74A437BE5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05064-A843-4EBE-9D56-D3BED98C0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58A969-CD57-4BAE-B536-21F7D6E2C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16E194-45D1-436D-A1AE-F7748AEE4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5E59EF-1A18-4C27-9B8F-E140B80B8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DD6EA3-21D6-40F3-91F5-22C752E1F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F2573E-3DD4-4468-86F2-2AE78A504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6BB69F-95DD-4AEB-A9A1-955A91231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6FA67C-DF6B-4262-B255-3E90598B7C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DDAF-50E5-4FD1-AA7A-8BD2167E5B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ACD0-DDF9-437B-8965-27F02FA5307D}" type="datetime">
              <a:rPr b="0" lang="en-US" sz="1200" spc="-1" strike="noStrike">
                <a:solidFill>
                  <a:srgbClr val="dcc718"/>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0799-9A32-4BE1-9072-F4DD41BB010C}" type="datetime">
              <a:rPr b="0" lang="en-US" sz="1200" spc="-1" strike="noStrike">
                <a:solidFill>
                  <a:srgbClr val="dcc718"/>
                </a:solidFill>
                <a:latin typeface="Times New Roman"/>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0E1D-19C7-478A-992A-9849473993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